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0970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ABB-D850-4BCD-98F4-9B5B2EB2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7AE-E651-40D8-A5BE-23ED5BAC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405A-4B6D-43CF-93B7-B60828BB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891-079B-413D-932C-22233C69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3A4-5F81-4AB7-8E2B-8E658B43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FE4-4C33-4F85-83D0-61A66793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0F7-2BC2-4D57-8F54-41F0ECF8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48B-F06A-4985-B73D-32D512B7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839-C0BA-40C0-BD66-17FBD2B8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D6F-51B7-4AE7-BB68-832014A0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EEA-4766-4C48-99F6-F0C6ECE6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DD1-077F-4036-A418-2256A677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B69F0C1C-0756-43F1-84AB-843B912A9F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705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27636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  / 1 37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 / 1 / 29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/ 1 / 22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2478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827240" y="646560"/>
            <a:ext cx="1151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…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249520" y="10713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turi Aparat = 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249520" y="12999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psturi Copii = 6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249520" y="17571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turi Adulti = 45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249520" y="213192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8610480"/>
            <a:ext cx="9907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umitru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0000"/>
                </a:solidFill>
                <a:latin typeface="Arial Narrow"/>
              </a:rPr>
              <a:t>48 / 1 /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9082080"/>
            <a:ext cx="1295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8458200"/>
            <a:ext cx="0" cy="21337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5919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3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249520" y="15285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MP =               41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1013616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8781120"/>
            <a:ext cx="1447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rezident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consiliere si orientare 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 si integrare socio-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integrare/reintegrare famil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/dezvoltare a deprinderilor de viata independ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360" y="861048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861048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98298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95248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92962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9067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8915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2705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3886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Rm. Valce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Arial Narrow"/>
              </a:rPr>
              <a:t>(13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8534520"/>
            <a:ext cx="6858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5-22T11:10:51Z</cp:lastPrinted>
  <dcterms:modified xsi:type="dcterms:W3CDTF">2006-05-24T10:12:27Z</dcterms:modified>
  <cp:revision>94</cp:revision>
  <dc:subject/>
  <dc:title>No Slide Title</dc:title>
</cp:coreProperties>
</file>